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40E3F-FFCB-4362-97BA-7C7483A7B5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CB987-433A-4109-843D-8CF463680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CC9-F066-4402-AC3E-6F751761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3CE-96D9-4B1F-B8BD-ABA7B91A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76FC-3A7E-4F06-B0C0-CB54C735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FFF-E4E5-441A-BA26-987CC795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F3E0-352A-4749-A900-46835A65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6FDD-C09A-49A7-BA77-09DDDE96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B8CD-F28A-4C09-822B-A5764EEC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175B-4D7A-40C8-B648-F66E6CD9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D421-C152-4B99-BC67-BD2A614E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E085-24F9-4C5E-9793-8C144080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27EB-47A2-4E84-A8FC-DA5D6B8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68B-2293-4C92-81ED-1C6176C3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A9D4-F446-4F0A-B3F9-965A0FF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7134-C70E-4261-BE2E-C8D909B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4ABC-D041-472E-A0A3-61E700DA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598D-2071-4FAF-9F89-FC21578E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7E9D-9A74-474F-87CE-E098131E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B55C-0637-421A-B0BC-A409CF92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743B-62D0-49A5-99A9-54EADC7A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478C-09AD-4701-8BE7-5DF98348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EA80-2A1E-4646-A608-EED3D91B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433B7-E5A3-4DCF-8507-EE23FABC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493-7ED4-4961-A06C-F46BE82F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5C3AD-9846-4405-9BD7-EEBEEE77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B56B0-7F74-43D9-A06F-30D46124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F582-D8A8-4488-9B02-DDA62A6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6226-3E87-4B43-90D3-63EE500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A1C5-AD99-496E-B10B-0E0892C4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3268-C897-4D46-83D0-5FFCE798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54B1-0D8F-4DE4-B99E-D5FFDC75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AC02-36C1-4ECD-9BF4-0D8C0F08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ADA74-B82D-492A-A6AF-ACEF2CF3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07825-F311-4482-9E07-ADAD0145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550-D48B-47D6-9A57-3A24F01B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3E610-02B2-4A90-A662-F3F3BA74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4D70F-C67D-4A5D-9EC2-7BE1DEF6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7FCA5-4196-447F-9B3D-C8155F47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15828-E31F-4509-8C71-3BE5A3B0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75C5F-9D9C-4865-B44F-8BB6D89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4692-11FD-4706-A327-CA880E5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BBD4-16F8-4CC4-989E-DC388854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CAFC7-1D0B-47F9-A42D-B93EBB93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30547-F980-4F70-8036-36D16253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0B34-1A5D-4F9F-BA3F-83FBBD96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6C4-3373-4124-88FF-9B4A9AD0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22A2-A176-4AD2-8332-D91DC0EF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A4CD-FDBA-43E5-9847-A0A98B24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29E1C-47A6-4D0D-8B2C-6690EC0E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8632-ED72-47FA-93A6-D279783A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EBCF8-7A2F-48B4-9B78-21713438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667E-F6CE-48DF-B0F3-93073943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EEC3F-CECD-4B73-A6B3-EC228A3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D5BD3-0205-4120-B3C1-9CD3FBC3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887A-87B6-4E1D-A897-0F0973ED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0A269-73A9-4DCE-9558-31537560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686-1A77-49D1-A238-9A83BF38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E66D-9A5D-4FB5-967B-764354AD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3C98-18BB-4B7A-8BAD-AC603AF1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59189-F5B4-4267-B925-D26E67DC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D64E-5CF5-400A-80F9-1781896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10F2-0A51-4AFA-8F49-3468E6F3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46587-F993-43B2-B85A-C97BA980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66779-78EA-4D50-BFE7-236F3CFC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93C78-40F5-4E37-BE73-6249477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4D7C-5EBE-41FA-B523-A7D07BE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04923-E4F6-4AC1-BFC3-9CC6150F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F2D-5825-4694-B5BF-A8317B71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0FD7C-8832-4F17-A46A-53BB6166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CDD1-85F4-4C7A-8AAE-25285954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C2C17-B649-48EC-A8B2-FA7CF001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F37E-16B6-4CD1-A356-F1C6E97A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B2EB-2823-47AF-B435-F2653BA3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31F38-D4D6-4656-B6DF-09E1ADD5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B68E8-9CD4-4516-9B63-051EE7E5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F176D-138D-4C2D-8535-659EE29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370A3-1ABB-41B4-A124-967168E3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F3AF8-E41E-4F14-80A6-4842CA6E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F45-EC9D-4036-8BA4-ECB792F0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9941E-C8D2-44CF-9464-4F1739C3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C42A8-4D18-4577-B79E-CB47F78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7F2C-2EA9-4A38-8145-261017ED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DC082-B678-4FC4-A795-6C970A75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27F9D-A544-4A6A-A792-A07A913C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03153-E575-4917-8DAF-0BCFB583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157FF-2358-43E1-A343-B3D8D85A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0B379-BC1B-4919-BAD9-AB944C1B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671A0-FA00-46D8-B9F3-DC3630DA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086E8-156D-47B6-A912-E28074AC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12C-B99D-4293-B17C-3A8092D9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82D99-F957-4DE8-900A-EBDAA744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CB915-7715-4749-8D7A-9B45DD56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85AC5-A643-4498-94B4-7FD6C378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19813-44D5-43F3-8D2B-BE6FB5F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5844A-BD51-42C6-B44F-7D1C8D30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8FA06-A611-4B36-BD34-9F1084A9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5922C-4977-41C8-A653-F7070568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BF4C9-2C53-4110-B697-875B84D7D8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B8341-952B-4F49-A465-A8325DCDD3D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Рамка 10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92" name="Рамка 1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Picture 3" descr="C:\Users\Solaris\Downloads\UK.png"/>
          <p:cNvPicPr/>
          <p:nvPr/>
        </p:nvPicPr>
        <p:blipFill>
          <a:blip r:embed="rId3"/>
          <a:srcRect l="0" t="0" r="0" b="7382"/>
          <a:stretch/>
        </p:blipFill>
        <p:spPr>
          <a:xfrm>
            <a:off x="0" y="5524560"/>
            <a:ext cx="1440000" cy="1333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93367-ACAC-4951-A709-FBA22E4EF32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Рамка 13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140" name="Рамка 13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A8577-0E45-4596-BF7A-8408725AF1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Рамка 12"/>
          <p:cNvGrpSpPr/>
          <p:nvPr/>
        </p:nvGrpSpPr>
        <p:grpSpPr>
          <a:xfrm>
            <a:off x="-19080" y="-19080"/>
            <a:ext cx="9175680" cy="6907320"/>
            <a:chOff x="-19080" y="-19080"/>
            <a:chExt cx="9175680" cy="6907320"/>
          </a:xfrm>
        </p:grpSpPr>
        <p:pic>
          <p:nvPicPr>
            <p:cNvPr id="186" name="Рамка 12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9175680" cy="69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0000" y="270000"/>
              <a:ext cx="8604000" cy="63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9C1B1-9CCB-4336-9AE3-47C0F03DC7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ABDDA-C902-4AA0-AB30-3B0BE4CA4C4B}" type="slidenum">
              <a:rPr b="0" lang="ru-RU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84959-272A-4A48-99D7-F20E3D82CCD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BB5A3-1770-4075-BA33-E4EC0E887F9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17560" y="1010880"/>
            <a:ext cx="6989760" cy="33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Использование интерактивных</a:t>
            </a:r>
            <a:br>
              <a:rPr sz="3200"/>
            </a:br>
            <a:r>
              <a:rPr b="1" i="1" lang="ru-RU" sz="32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технологий при обучении</a:t>
            </a:r>
            <a:br>
              <a:rPr sz="3200"/>
            </a:br>
            <a:r>
              <a:rPr b="1" i="1" lang="ru-RU" sz="32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английскому языку для повышения мотивации к предмету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6" name="Рисунок 2" descr=""/>
          <p:cNvPicPr/>
          <p:nvPr/>
        </p:nvPicPr>
        <p:blipFill>
          <a:blip r:embed="rId1"/>
          <a:stretch/>
        </p:blipFill>
        <p:spPr>
          <a:xfrm>
            <a:off x="0" y="14400"/>
            <a:ext cx="3978360" cy="267156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3" descr=""/>
          <p:cNvPicPr/>
          <p:nvPr/>
        </p:nvPicPr>
        <p:blipFill>
          <a:blip r:embed="rId2"/>
          <a:stretch/>
        </p:blipFill>
        <p:spPr>
          <a:xfrm>
            <a:off x="5746680" y="4441680"/>
            <a:ext cx="26971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5840" y="8478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я: 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21880" y="205272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систематизации, повторении материала;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работе с текстом;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повторении в начале урока;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введении в тему;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сборе необходимого языкового материала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зговой штурм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236520" y="1851120"/>
            <a:ext cx="422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зывают слова по теме, которые учитель (или ученики) записывают в две колонки. Затем учащийся называют обобщающие слова: 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ms", "furnitur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5137200" y="1684440"/>
            <a:ext cx="31068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ейс – технологии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ть данного метода заключается в критическом анализе и решении конкретных проблем или случаев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ейс – это описание ситуации, которая имела место в той или иной практике и содержит в себе некоторую проблему, требующую разрешения.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нь из жизни обычной семьи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e day in the life of an average family.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рать ребенка на отдых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лагерь на море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В туристическую поездку по Англи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17640" y="1784160"/>
            <a:ext cx="421308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ck  your child’s things  to go on holiday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To the camp at the seasid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On the tour around Britai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85360" y="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ейс – технологии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58" name="Объект 3" descr=""/>
          <p:cNvPicPr/>
          <p:nvPr/>
        </p:nvPicPr>
        <p:blipFill>
          <a:blip r:embed="rId1"/>
          <a:stretch/>
        </p:blipFill>
        <p:spPr>
          <a:xfrm>
            <a:off x="1411200" y="1536840"/>
            <a:ext cx="6597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87440" y="71928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203a4e"/>
                </a:solidFill>
                <a:latin typeface="Times New Roman"/>
                <a:ea typeface="Times New Roman"/>
              </a:rPr>
              <a:t>Синквейн 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836280" y="2093400"/>
            <a:ext cx="7761240" cy="5045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стихотворение, состоящее из пяти строк , в которых обобщена информация по изученной теме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5840" y="47952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ила написания синквейна</a:t>
            </a:r>
            <a:br>
              <a:rPr sz="40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Прямоугольник 1"/>
          <p:cNvSpPr/>
          <p:nvPr/>
        </p:nvSpPr>
        <p:spPr>
          <a:xfrm>
            <a:off x="5073480" y="209376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, my h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y, comfor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s, gives comfort, cal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home is my cast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l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295200" y="1679400"/>
            <a:ext cx="4954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48800" y="2952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 «Ролевая игра»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04800" y="2198160"/>
            <a:ext cx="8229600" cy="465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левая игра – это речевая, игровая и учебная деятельности одновременно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ществует огромное количество форм ролевых игр на уроках английского языка: презентации, клубы по интересам, интервью, заочные путешествия, круглые столы, пресс-конференции, экскурсии, сказки, репортажи и т.д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1880" y="6858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КТ технологии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пьютерные презентации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ктронные учебники и компьютерные программы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ование Интернет-ресурсов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ение компьютерных технологий на уроках иностранного языка позволяет в увлекательной творческой форме продуктивно решать все задачи урока, осуществлять обучающую коммуникативную познавательную деятельность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ременные интерактивные педагогические технологии – это огромное количество возможностей, приводящих к мотивации, как к основному двигательному механизму образования и самообразования человека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возможностей современных педагогических интерактивных технологий как инструмента повышения мотивации к обучению и результативности обучения, и развития креативных способностей детей на уроках английского языка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Содержимое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2296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05000"/>
              </a:lnSpc>
              <a:spcBef>
                <a:spcPts val="1199"/>
              </a:spcBef>
              <a:spcAft>
                <a:spcPts val="1001"/>
              </a:spcAft>
              <a:buClr>
                <a:srgbClr val="e48312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учение инновационных форм обучения в отечественной и зарубежной методической литературе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5000"/>
              </a:lnSpc>
              <a:spcBef>
                <a:spcPts val="1199"/>
              </a:spcBef>
              <a:spcAft>
                <a:spcPts val="1001"/>
              </a:spcAft>
              <a:buClr>
                <a:srgbClr val="e48312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нение ИПТ на уроках английского языка как средства повышения результативности обучения и развития креативности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5000"/>
              </a:lnSpc>
              <a:spcBef>
                <a:spcPts val="1199"/>
              </a:spcBef>
              <a:spcAft>
                <a:spcPts val="1001"/>
              </a:spcAft>
              <a:buClr>
                <a:srgbClr val="e48312"/>
              </a:buClr>
              <a:buSzPct val="41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условий для творческой деятельности на уроках английского языка посредством различных современных педагогических технологий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8680" y="2952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28560" y="1851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ременные формы обучения характеризуются высокой коммуникативной возможностью и активным включением учащихся в учебную деятельность, активизируют потенциал знаний и умений навыков говорения и аудирования, эффективно развивают навыки коммуникативной компетенции учащихся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способствует адаптации к современным социальным условиям, т.к. обществу нужны люди, быстро ориентирующиеся в современном мире, самостоятельные и инициативные, достигающие успеха в своей деятельности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2960" y="27612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ое обучение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769680" y="191772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то обучение, построенное на взаимодействии учащегося с учебной средой, которая служит областью осваиваемого опыта. Суть этого обучения состоит в том, что учебный процесс организован таким образом, что все учащиеся оказываются вовлеченными в процесс познания. Каждый из них вносит свой особенный личный вклад, идет обмен знаниями, идеями, методами деятельности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1880" y="86364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ые технологии предполагают:</a:t>
            </a:r>
            <a:br>
              <a:rPr sz="4300"/>
            </a:b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1880" y="158760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Диалоговое общение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риобретение самостоятельно добытого пережитого знания и умения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звитие критического мышления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звитие умения решать проблемы;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Формирование личностных качеств учащихся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Овал 3"/>
          <p:cNvSpPr/>
          <p:nvPr/>
        </p:nvSpPr>
        <p:spPr>
          <a:xfrm>
            <a:off x="1736640" y="2478240"/>
            <a:ext cx="5430960" cy="1901520"/>
          </a:xfrm>
          <a:prstGeom prst="ellipse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нтерактив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Овал 4"/>
          <p:cNvGrpSpPr/>
          <p:nvPr/>
        </p:nvGrpSpPr>
        <p:grpSpPr>
          <a:xfrm>
            <a:off x="96840" y="2840040"/>
            <a:ext cx="1860480" cy="1293840"/>
            <a:chOff x="96840" y="2840040"/>
            <a:chExt cx="1860480" cy="1293840"/>
          </a:xfrm>
        </p:grpSpPr>
        <p:pic>
          <p:nvPicPr>
            <p:cNvPr id="380" name="Овал 4" descr=""/>
            <p:cNvPicPr/>
            <p:nvPr/>
          </p:nvPicPr>
          <p:blipFill>
            <a:blip r:embed="rId1"/>
            <a:stretch/>
          </p:blipFill>
          <p:spPr>
            <a:xfrm>
              <a:off x="96840" y="2840040"/>
              <a:ext cx="186048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72960" y="3035160"/>
              <a:ext cx="130824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инквей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Овал 11"/>
          <p:cNvGrpSpPr/>
          <p:nvPr/>
        </p:nvGrpSpPr>
        <p:grpSpPr>
          <a:xfrm>
            <a:off x="255600" y="4095720"/>
            <a:ext cx="1476360" cy="1317600"/>
            <a:chOff x="255600" y="4095720"/>
            <a:chExt cx="1476360" cy="1317600"/>
          </a:xfrm>
        </p:grpSpPr>
        <p:pic>
          <p:nvPicPr>
            <p:cNvPr id="383" name="Овал 11" descr=""/>
            <p:cNvPicPr/>
            <p:nvPr/>
          </p:nvPicPr>
          <p:blipFill>
            <a:blip r:embed="rId2"/>
            <a:stretch/>
          </p:blipFill>
          <p:spPr>
            <a:xfrm>
              <a:off x="255600" y="4095720"/>
              <a:ext cx="147636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74840" y="4292640"/>
              <a:ext cx="103500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Кейс - технологи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Овал 12"/>
          <p:cNvSpPr/>
          <p:nvPr/>
        </p:nvSpPr>
        <p:spPr>
          <a:xfrm>
            <a:off x="426960" y="1440000"/>
            <a:ext cx="1462320" cy="1307880"/>
          </a:xfrm>
          <a:prstGeom prst="ellipse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КТ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Овал 13"/>
          <p:cNvGrpSpPr/>
          <p:nvPr/>
        </p:nvGrpSpPr>
        <p:grpSpPr>
          <a:xfrm>
            <a:off x="7338960" y="2895480"/>
            <a:ext cx="1476360" cy="1316160"/>
            <a:chOff x="7338960" y="2895480"/>
            <a:chExt cx="1476360" cy="1316160"/>
          </a:xfrm>
        </p:grpSpPr>
        <p:pic>
          <p:nvPicPr>
            <p:cNvPr id="387" name="Овал 13" descr=""/>
            <p:cNvPicPr/>
            <p:nvPr/>
          </p:nvPicPr>
          <p:blipFill>
            <a:blip r:embed="rId3"/>
            <a:stretch/>
          </p:blipFill>
          <p:spPr>
            <a:xfrm>
              <a:off x="7338960" y="2895480"/>
              <a:ext cx="147636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559640" y="3092400"/>
              <a:ext cx="103500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Груп-повой расска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Овал 14"/>
          <p:cNvSpPr/>
          <p:nvPr/>
        </p:nvSpPr>
        <p:spPr>
          <a:xfrm>
            <a:off x="1293840" y="5064120"/>
            <a:ext cx="1463760" cy="1308240"/>
          </a:xfrm>
          <a:prstGeom prst="ellipse">
            <a:avLst/>
          </a:prstGeom>
          <a:solidFill>
            <a:srgbClr val="9b8357"/>
          </a:solidFill>
          <a:ln w="15840">
            <a:solidFill>
              <a:srgbClr val="715f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сер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Овал 15"/>
          <p:cNvSpPr/>
          <p:nvPr/>
        </p:nvSpPr>
        <p:spPr>
          <a:xfrm>
            <a:off x="2852640" y="5343480"/>
            <a:ext cx="1463760" cy="1308240"/>
          </a:xfrm>
          <a:prstGeom prst="ellipse">
            <a:avLst/>
          </a:prstGeom>
          <a:solidFill>
            <a:srgbClr val="865640"/>
          </a:solidFill>
          <a:ln w="15840">
            <a:solidFill>
              <a:srgbClr val="61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зго-вой шту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Овал 16"/>
          <p:cNvSpPr/>
          <p:nvPr/>
        </p:nvSpPr>
        <p:spPr>
          <a:xfrm>
            <a:off x="4468680" y="5369040"/>
            <a:ext cx="1463760" cy="1307880"/>
          </a:xfrm>
          <a:prstGeom prst="ellipse">
            <a:avLst/>
          </a:prstGeom>
          <a:solidFill>
            <a:srgbClr val="c2bc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ласт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Овал 17"/>
          <p:cNvGrpSpPr/>
          <p:nvPr/>
        </p:nvGrpSpPr>
        <p:grpSpPr>
          <a:xfrm>
            <a:off x="5967360" y="5237280"/>
            <a:ext cx="1476360" cy="1315800"/>
            <a:chOff x="5967360" y="5237280"/>
            <a:chExt cx="1476360" cy="1315800"/>
          </a:xfrm>
        </p:grpSpPr>
        <p:pic>
          <p:nvPicPr>
            <p:cNvPr id="393" name="Овал 17" descr=""/>
            <p:cNvPicPr/>
            <p:nvPr/>
          </p:nvPicPr>
          <p:blipFill>
            <a:blip r:embed="rId4"/>
            <a:stretch/>
          </p:blipFill>
          <p:spPr>
            <a:xfrm>
              <a:off x="5967360" y="5237280"/>
              <a:ext cx="147636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186600" y="5432400"/>
              <a:ext cx="1033200" cy="9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олевая игр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Овал 18"/>
          <p:cNvGrpSpPr/>
          <p:nvPr/>
        </p:nvGrpSpPr>
        <p:grpSpPr>
          <a:xfrm>
            <a:off x="7113600" y="4316400"/>
            <a:ext cx="1476360" cy="1322280"/>
            <a:chOff x="7113600" y="4316400"/>
            <a:chExt cx="1476360" cy="1322280"/>
          </a:xfrm>
        </p:grpSpPr>
        <p:pic>
          <p:nvPicPr>
            <p:cNvPr id="396" name="Овал 18" descr=""/>
            <p:cNvPicPr/>
            <p:nvPr/>
          </p:nvPicPr>
          <p:blipFill>
            <a:blip r:embed="rId5"/>
            <a:stretch/>
          </p:blipFill>
          <p:spPr>
            <a:xfrm>
              <a:off x="7113600" y="4316400"/>
              <a:ext cx="14763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337520" y="4514760"/>
              <a:ext cx="10332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Брейн-рин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Овал 19"/>
          <p:cNvSpPr/>
          <p:nvPr/>
        </p:nvSpPr>
        <p:spPr>
          <a:xfrm>
            <a:off x="7093080" y="1479600"/>
            <a:ext cx="1461960" cy="1307880"/>
          </a:xfrm>
          <a:prstGeom prst="ellipse">
            <a:avLst/>
          </a:prstGeom>
          <a:solidFill>
            <a:srgbClr val="94a088"/>
          </a:solidFill>
          <a:ln w="15840">
            <a:solidFill>
              <a:srgbClr val="6b7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Незаконченные пред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Овал 20"/>
          <p:cNvSpPr/>
          <p:nvPr/>
        </p:nvSpPr>
        <p:spPr>
          <a:xfrm>
            <a:off x="6062760" y="506520"/>
            <a:ext cx="1463400" cy="1307880"/>
          </a:xfrm>
          <a:prstGeom prst="ellipse">
            <a:avLst/>
          </a:prstGeom>
          <a:solidFill>
            <a:srgbClr val="9b8357"/>
          </a:solidFill>
          <a:ln w="15840">
            <a:solidFill>
              <a:srgbClr val="715f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циологичес-кий 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Овал 21"/>
          <p:cNvSpPr/>
          <p:nvPr/>
        </p:nvSpPr>
        <p:spPr>
          <a:xfrm>
            <a:off x="4541760" y="264960"/>
            <a:ext cx="1462320" cy="1308240"/>
          </a:xfrm>
          <a:prstGeom prst="ellipse">
            <a:avLst/>
          </a:prstGeom>
          <a:solidFill>
            <a:srgbClr val="865640"/>
          </a:solidFill>
          <a:ln w="15840">
            <a:solidFill>
              <a:srgbClr val="613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рус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Овал 22"/>
          <p:cNvSpPr/>
          <p:nvPr/>
        </p:nvSpPr>
        <p:spPr>
          <a:xfrm>
            <a:off x="3005280" y="262080"/>
            <a:ext cx="1463400" cy="1309680"/>
          </a:xfrm>
          <a:prstGeom prst="ellipse">
            <a:avLst/>
          </a:prstGeom>
          <a:solidFill>
            <a:srgbClr val="bd582c"/>
          </a:solidFill>
          <a:ln w="15840">
            <a:solidFill>
              <a:srgbClr val="8a3e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Овал 23"/>
          <p:cNvGrpSpPr/>
          <p:nvPr/>
        </p:nvGrpSpPr>
        <p:grpSpPr>
          <a:xfrm>
            <a:off x="1517760" y="542880"/>
            <a:ext cx="1474560" cy="1322280"/>
            <a:chOff x="1517760" y="542880"/>
            <a:chExt cx="1474560" cy="1322280"/>
          </a:xfrm>
        </p:grpSpPr>
        <p:pic>
          <p:nvPicPr>
            <p:cNvPr id="403" name="Овал 23" descr=""/>
            <p:cNvPicPr/>
            <p:nvPr/>
          </p:nvPicPr>
          <p:blipFill>
            <a:blip r:embed="rId6"/>
            <a:stretch/>
          </p:blipFill>
          <p:spPr>
            <a:xfrm>
              <a:off x="1517760" y="542880"/>
              <a:ext cx="14745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738440" y="741240"/>
              <a:ext cx="10350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Игровые технологи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Стрелка вверх 24"/>
          <p:cNvSpPr/>
          <p:nvPr/>
        </p:nvSpPr>
        <p:spPr>
          <a:xfrm rot="21129600">
            <a:off x="3678120" y="1561680"/>
            <a:ext cx="716040" cy="890640"/>
          </a:xfrm>
          <a:prstGeom prst="upArrow">
            <a:avLst>
              <a:gd name="adj1" fmla="val 50000"/>
              <a:gd name="adj2" fmla="val 49995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Стрелка вверх 25"/>
          <p:cNvSpPr/>
          <p:nvPr/>
        </p:nvSpPr>
        <p:spPr>
          <a:xfrm rot="910800">
            <a:off x="4533480" y="1572840"/>
            <a:ext cx="717480" cy="89208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Стрелка вверх 26"/>
          <p:cNvSpPr/>
          <p:nvPr/>
        </p:nvSpPr>
        <p:spPr>
          <a:xfrm rot="2163000">
            <a:off x="5319720" y="1731600"/>
            <a:ext cx="717480" cy="1039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Стрелка вверх 27"/>
          <p:cNvSpPr/>
          <p:nvPr/>
        </p:nvSpPr>
        <p:spPr>
          <a:xfrm rot="3576600">
            <a:off x="5958720" y="2125440"/>
            <a:ext cx="717840" cy="1273320"/>
          </a:xfrm>
          <a:prstGeom prst="upArrow">
            <a:avLst>
              <a:gd name="adj1" fmla="val 50000"/>
              <a:gd name="adj2" fmla="val 49987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Стрелка вверх 28"/>
          <p:cNvSpPr/>
          <p:nvPr/>
        </p:nvSpPr>
        <p:spPr>
          <a:xfrm rot="5400000">
            <a:off x="6136920" y="2838600"/>
            <a:ext cx="717480" cy="124452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Стрелка вверх 29"/>
          <p:cNvSpPr/>
          <p:nvPr/>
        </p:nvSpPr>
        <p:spPr>
          <a:xfrm rot="7271400">
            <a:off x="6003360" y="3571560"/>
            <a:ext cx="717480" cy="115272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Стрелка вверх 30"/>
          <p:cNvSpPr/>
          <p:nvPr/>
        </p:nvSpPr>
        <p:spPr>
          <a:xfrm rot="8530800">
            <a:off x="5461920" y="4173120"/>
            <a:ext cx="717480" cy="107316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Стрелка вверх 31"/>
          <p:cNvSpPr/>
          <p:nvPr/>
        </p:nvSpPr>
        <p:spPr>
          <a:xfrm rot="9981600">
            <a:off x="4588920" y="4541400"/>
            <a:ext cx="717480" cy="892080"/>
          </a:xfrm>
          <a:prstGeom prst="upArrow">
            <a:avLst>
              <a:gd name="adj1" fmla="val 50000"/>
              <a:gd name="adj2" fmla="val 49999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Стрелка вверх 32"/>
          <p:cNvSpPr/>
          <p:nvPr/>
        </p:nvSpPr>
        <p:spPr>
          <a:xfrm rot="12208800">
            <a:off x="3575160" y="4540320"/>
            <a:ext cx="715680" cy="89064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Стрелка вверх 33"/>
          <p:cNvSpPr/>
          <p:nvPr/>
        </p:nvSpPr>
        <p:spPr>
          <a:xfrm rot="13749600">
            <a:off x="2740680" y="4172040"/>
            <a:ext cx="717480" cy="137664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Стрелка вверх 34"/>
          <p:cNvSpPr/>
          <p:nvPr/>
        </p:nvSpPr>
        <p:spPr>
          <a:xfrm rot="14673000">
            <a:off x="2253240" y="3732840"/>
            <a:ext cx="717840" cy="1344600"/>
          </a:xfrm>
          <a:prstGeom prst="upArrow">
            <a:avLst>
              <a:gd name="adj1" fmla="val 50000"/>
              <a:gd name="adj2" fmla="val 49976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Стрелка вверх 35"/>
          <p:cNvSpPr/>
          <p:nvPr/>
        </p:nvSpPr>
        <p:spPr>
          <a:xfrm rot="16468800">
            <a:off x="2126160" y="3129120"/>
            <a:ext cx="717480" cy="121788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Стрелка вверх 36"/>
          <p:cNvSpPr/>
          <p:nvPr/>
        </p:nvSpPr>
        <p:spPr>
          <a:xfrm rot="18362400">
            <a:off x="2262960" y="2400480"/>
            <a:ext cx="717480" cy="117000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Стрелка вверх 37"/>
          <p:cNvSpPr/>
          <p:nvPr/>
        </p:nvSpPr>
        <p:spPr>
          <a:xfrm rot="19699200">
            <a:off x="2717640" y="1701720"/>
            <a:ext cx="717840" cy="114480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91640" y="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тер –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графический 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ём систематизации материала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85640" y="14349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71680" indent="-571680" algn="just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ысли не громоздятся, а располагаются в определённом порядке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571680" indent="-571680" algn="ctr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bd582c"/>
                </a:solidFill>
                <a:latin typeface="Times New Roman"/>
                <a:ea typeface="Times New Roman"/>
              </a:rPr>
              <a:t>Технология составления кластера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лючевое слово или понятие;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ись слов вокруг ключевого слова. Они обводятся и соединяются с основным словом;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ждое новое слово образует собой новое ядро, которое вызывает дальнейшие ассоциации. Таким образом, создаются ассоциативные цепочки;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заимосвязанные понятия соединяются линиями.</a:t>
            </a:r>
            <a:r>
              <a:rPr b="0" lang="ru-RU" sz="19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alibri"/>
              </a:rPr>
              <a:t>         </a:t>
            </a: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80920" y="3366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хнология составления кластера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2" name="Овал 3"/>
          <p:cNvSpPr/>
          <p:nvPr/>
        </p:nvSpPr>
        <p:spPr>
          <a:xfrm>
            <a:off x="3357720" y="3143160"/>
            <a:ext cx="2571480" cy="1428840"/>
          </a:xfrm>
          <a:prstGeom prst="ellipse">
            <a:avLst/>
          </a:prstGeom>
          <a:solidFill>
            <a:srgbClr val="bd582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A 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Овал 7"/>
          <p:cNvSpPr/>
          <p:nvPr/>
        </p:nvSpPr>
        <p:spPr>
          <a:xfrm>
            <a:off x="1000080" y="2143080"/>
            <a:ext cx="2571840" cy="928800"/>
          </a:xfrm>
          <a:prstGeom prst="ellipse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living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4" name="Овал 8"/>
          <p:cNvGrpSpPr/>
          <p:nvPr/>
        </p:nvGrpSpPr>
        <p:grpSpPr>
          <a:xfrm>
            <a:off x="2066760" y="5638680"/>
            <a:ext cx="1371600" cy="938160"/>
            <a:chOff x="2066760" y="5638680"/>
            <a:chExt cx="1371600" cy="938160"/>
          </a:xfrm>
        </p:grpSpPr>
        <p:pic>
          <p:nvPicPr>
            <p:cNvPr id="425" name="Овал 8" descr=""/>
            <p:cNvPicPr/>
            <p:nvPr/>
          </p:nvPicPr>
          <p:blipFill>
            <a:blip r:embed="rId1"/>
            <a:stretch/>
          </p:blipFill>
          <p:spPr>
            <a:xfrm>
              <a:off x="2066760" y="5638680"/>
              <a:ext cx="13716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2270160" y="5780160"/>
              <a:ext cx="9604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lamp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7" name="Овал 9"/>
          <p:cNvGrpSpPr/>
          <p:nvPr/>
        </p:nvGrpSpPr>
        <p:grpSpPr>
          <a:xfrm>
            <a:off x="566640" y="1139760"/>
            <a:ext cx="1365480" cy="938160"/>
            <a:chOff x="566640" y="1139760"/>
            <a:chExt cx="1365480" cy="938160"/>
          </a:xfrm>
        </p:grpSpPr>
        <p:pic>
          <p:nvPicPr>
            <p:cNvPr id="428" name="Овал 9" descr=""/>
            <p:cNvPicPr/>
            <p:nvPr/>
          </p:nvPicPr>
          <p:blipFill>
            <a:blip r:embed="rId2"/>
            <a:stretch/>
          </p:blipFill>
          <p:spPr>
            <a:xfrm>
              <a:off x="566640" y="1139760"/>
              <a:ext cx="1365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70040" y="1279440"/>
              <a:ext cx="9604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sof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Овал 10"/>
          <p:cNvGrpSpPr/>
          <p:nvPr/>
        </p:nvGrpSpPr>
        <p:grpSpPr>
          <a:xfrm>
            <a:off x="-6480" y="2852640"/>
            <a:ext cx="1371600" cy="938160"/>
            <a:chOff x="-6480" y="2852640"/>
            <a:chExt cx="1371600" cy="938160"/>
          </a:xfrm>
        </p:grpSpPr>
        <p:pic>
          <p:nvPicPr>
            <p:cNvPr id="431" name="Овал 10" descr=""/>
            <p:cNvPicPr/>
            <p:nvPr/>
          </p:nvPicPr>
          <p:blipFill>
            <a:blip r:embed="rId3"/>
            <a:stretch/>
          </p:blipFill>
          <p:spPr>
            <a:xfrm>
              <a:off x="-6480" y="2852640"/>
              <a:ext cx="13716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198360" y="2994120"/>
              <a:ext cx="9604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TV s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Овал 11"/>
          <p:cNvSpPr/>
          <p:nvPr/>
        </p:nvSpPr>
        <p:spPr>
          <a:xfrm>
            <a:off x="1143000" y="4429080"/>
            <a:ext cx="2571840" cy="928800"/>
          </a:xfrm>
          <a:prstGeom prst="ellipse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bed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Овал 12"/>
          <p:cNvSpPr/>
          <p:nvPr/>
        </p:nvSpPr>
        <p:spPr>
          <a:xfrm>
            <a:off x="5786280" y="4429080"/>
            <a:ext cx="2571840" cy="928800"/>
          </a:xfrm>
          <a:prstGeom prst="ellipse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 kitc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Овал 13"/>
          <p:cNvSpPr/>
          <p:nvPr/>
        </p:nvSpPr>
        <p:spPr>
          <a:xfrm>
            <a:off x="5715000" y="2071800"/>
            <a:ext cx="2571840" cy="928440"/>
          </a:xfrm>
          <a:prstGeom prst="ellipse">
            <a:avLst/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 h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6" name="Овал 14"/>
          <p:cNvGrpSpPr/>
          <p:nvPr/>
        </p:nvGrpSpPr>
        <p:grpSpPr>
          <a:xfrm>
            <a:off x="353880" y="5353200"/>
            <a:ext cx="1365480" cy="938160"/>
            <a:chOff x="353880" y="5353200"/>
            <a:chExt cx="1365480" cy="938160"/>
          </a:xfrm>
        </p:grpSpPr>
        <p:pic>
          <p:nvPicPr>
            <p:cNvPr id="437" name="Овал 14" descr=""/>
            <p:cNvPicPr/>
            <p:nvPr/>
          </p:nvPicPr>
          <p:blipFill>
            <a:blip r:embed="rId4"/>
            <a:stretch/>
          </p:blipFill>
          <p:spPr>
            <a:xfrm>
              <a:off x="353880" y="5353200"/>
              <a:ext cx="1365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55480" y="5494320"/>
              <a:ext cx="9604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 be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39" name="Прямая со стрелкой 20"/>
          <p:cNvCxnSpPr>
            <a:stCxn id="422" idx="7"/>
          </p:cNvCxnSpPr>
          <p:nvPr/>
        </p:nvCxnSpPr>
        <p:spPr>
          <a:xfrm flipV="1">
            <a:off x="5553000" y="2999520"/>
            <a:ext cx="876960" cy="353160"/>
          </a:xfrm>
          <a:prstGeom prst="straightConnector1">
            <a:avLst/>
          </a:prstGeom>
          <a:ln w="507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440" name="Прямая со стрелкой 22"/>
          <p:cNvCxnSpPr/>
          <p:nvPr/>
        </p:nvCxnSpPr>
        <p:spPr>
          <a:xfrm>
            <a:off x="5643720" y="4286160"/>
            <a:ext cx="643320" cy="215280"/>
          </a:xfrm>
          <a:prstGeom prst="straightConnector1">
            <a:avLst/>
          </a:prstGeom>
          <a:ln w="507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441" name="Прямая со стрелкой 23"/>
          <p:cNvCxnSpPr>
            <a:stCxn id="422" idx="3"/>
          </p:cNvCxnSpPr>
          <p:nvPr/>
        </p:nvCxnSpPr>
        <p:spPr>
          <a:xfrm flipH="1">
            <a:off x="2999880" y="4362120"/>
            <a:ext cx="734400" cy="67320"/>
          </a:xfrm>
          <a:prstGeom prst="straightConnector1">
            <a:avLst/>
          </a:prstGeom>
          <a:ln w="507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442" name="Прямая со стрелкой 24"/>
          <p:cNvCxnSpPr/>
          <p:nvPr/>
        </p:nvCxnSpPr>
        <p:spPr>
          <a:xfrm flipH="1" flipV="1">
            <a:off x="3071160" y="2999880"/>
            <a:ext cx="857880" cy="215280"/>
          </a:xfrm>
          <a:prstGeom prst="straightConnector1">
            <a:avLst/>
          </a:prstGeom>
          <a:ln w="507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443" name="Прямая со стрелкой 25"/>
          <p:cNvCxnSpPr/>
          <p:nvPr/>
        </p:nvCxnSpPr>
        <p:spPr>
          <a:xfrm flipH="1">
            <a:off x="1642680" y="5357880"/>
            <a:ext cx="357840" cy="286560"/>
          </a:xfrm>
          <a:prstGeom prst="straightConnector1">
            <a:avLst/>
          </a:prstGeom>
          <a:ln w="507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444" name="Прямая со стрелкой 26"/>
          <p:cNvCxnSpPr/>
          <p:nvPr/>
        </p:nvCxnSpPr>
        <p:spPr>
          <a:xfrm flipH="1">
            <a:off x="2749320" y="5214600"/>
            <a:ext cx="108720" cy="429480"/>
          </a:xfrm>
          <a:prstGeom prst="straightConnector1">
            <a:avLst/>
          </a:prstGeom>
          <a:ln w="507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445" name="Прямая со стрелкой 27"/>
          <p:cNvCxnSpPr/>
          <p:nvPr/>
        </p:nvCxnSpPr>
        <p:spPr>
          <a:xfrm flipH="1">
            <a:off x="1356480" y="3071880"/>
            <a:ext cx="429480" cy="249840"/>
          </a:xfrm>
          <a:prstGeom prst="straightConnector1">
            <a:avLst/>
          </a:prstGeom>
          <a:ln w="50760">
            <a:solidFill>
              <a:srgbClr val="e48312"/>
            </a:solidFill>
            <a:miter/>
            <a:tailEnd len="med" type="arrow" w="med"/>
          </a:ln>
        </p:spPr>
      </p:cxnSp>
      <p:cxnSp>
        <p:nvCxnSpPr>
          <p:cNvPr id="446" name="Прямая со стрелкой 28"/>
          <p:cNvCxnSpPr>
            <a:stCxn id="423" idx="0"/>
          </p:cNvCxnSpPr>
          <p:nvPr/>
        </p:nvCxnSpPr>
        <p:spPr>
          <a:xfrm flipH="1" flipV="1">
            <a:off x="1643040" y="1785600"/>
            <a:ext cx="643320" cy="357840"/>
          </a:xfrm>
          <a:prstGeom prst="straightConnector1">
            <a:avLst/>
          </a:prstGeom>
          <a:ln w="50760">
            <a:solidFill>
              <a:srgbClr val="e4831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Viktor</cp:lastModifiedBy>
  <dcterms:modified xsi:type="dcterms:W3CDTF">2024-03-26T16:38:26Z</dcterms:modified>
  <cp:revision>104</cp:revision>
  <dc:subject/>
  <dc:title>Идиомы английского языка</dc:title>
</cp:coreProperties>
</file>